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8C4-3515-4A36-9598-902DDA32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3AF-21DE-4629-B7D2-CFAA5311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F3F-BC2A-4D4F-862B-A6859886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00B-EFCB-4BE1-B6AD-330AFAEE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175F-6C11-4896-B66A-6E52A3B1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8BB9-7FA0-4FB7-87BC-06ED3F33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3496-C5D9-4EE5-ACC6-0FC692D2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A569-93B5-4A1D-ABFA-5537BC87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A36F-1BA1-45D1-B1AA-D224BC6E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213C-B858-4928-8802-573F29A8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BC7F-2D8B-418B-9AA6-781FD50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FB8-8E26-42C9-8BC2-DA5F0FEA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1D66-51E0-4B3C-99E7-873E7621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F2A4-822E-4107-89D5-26FCFEFF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B869-EAB0-42DB-9C6C-0D289A11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384C-0B1A-4401-964D-1EDF4EAB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5358-B6EC-4E5F-BC7A-F62DAF3F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F09-7ACD-4883-A0D7-91A40380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FF1-3435-4B94-B083-E45A9658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2C8-C377-4AC1-A4B3-D8393C1A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344-49BB-4DDC-8B64-75F8AB0A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EA6-EB9E-4479-8B5C-338CB86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9A3-7269-4F60-9263-373DE488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655-353C-44EB-80F5-AD0C112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5290-4715-4708-B747-7049336E55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DD59-4037-46C1-A171-029A4F9A1E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ext as Mus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ased on a Presentation by Dr. Julie Josli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tion Lead ELA 9-12 NCDP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. 6 Teacher Evaluation Instrument – Student Growth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% EOC or MS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% 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Much Informational Rea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the student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collaborate? Why PLC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on makes a teacher’s life easier and it has the potential to improve student growth – a host of ideas and approach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roves teacher and student accountabili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C’s provide support, information, and they generate new ide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fter all, who has all the answers?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mple Pacing Gu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as M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of texts that caused you 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this tex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texts that support stand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vs. Quantity (Not a mile wide and an inch deep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e the end result in mind (e.g. graduation paper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have to love it – a text that’s worth re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am I asking students to read this tex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big idea do I want my students to take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 Why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pic of Gilgames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hif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like a _______________ and write like an ________________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like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tect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write like a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vestigative repor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s is the year of evidence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prepare text-based task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!!!!!Emphasize questions that force students back to the text!!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to Write in the Classro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say? 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ummary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mean?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nfer and Get the Big Idea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does it matter?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Reflec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Am Giving You This Poem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evi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ple Performance Tas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performance Tas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me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umentative vs. Persuasive (reasoning vs. emotional.)  The emphasis is argument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kespeare – Do we have to teach the whole text? (No.) Be cre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uation Project – Build your course around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9:16:16Z</dcterms:created>
  <dc:creator>Dspence</dc:creator>
  <dc:description/>
  <dc:language>en-US</dc:language>
  <cp:lastModifiedBy>Dspence</cp:lastModifiedBy>
  <dcterms:modified xsi:type="dcterms:W3CDTF">2012-03-09T13:22:34Z</dcterms:modified>
  <cp:revision>3</cp:revision>
  <dc:subject/>
  <dc:title>Text as Muse</dc:title>
</cp:coreProperties>
</file>